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DB6-7035-46B3-893B-05985A72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F3A-F8D8-46ED-B5A9-2A9C47C3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04F-48DD-4C3F-84CA-A5AC3815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4FA-68BD-4FDF-A1C4-BFAA2ACF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D04-B712-409B-B376-254BBCD5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D4D-5D51-4012-8AE0-133B67CB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E98-BC2B-488D-AC06-356DF93D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4D6-08FF-463B-A5DA-480BA894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5E8-7730-41F8-9BC7-56061DF8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537-C191-47F5-A1BA-A394017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D8C-9A68-45DD-B5C4-82973102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0A1-761E-4428-A698-90CBF320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6534-2AB3-4D2B-89BD-628FBF3E1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Passé Com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y Alyssa Hartstein and Emily Dzu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Etre Verbs that End in -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Present           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De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Re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Sor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Par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Mou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De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Re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V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Sor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Par</a:t>
            </a:r>
            <a:r>
              <a:rPr b="1" lang="en-US" sz="2800" spc="-1" strike="noStrike">
                <a:solidFill>
                  <a:srgbClr val="000000"/>
                </a:solidFill>
                <a:latin typeface="Brush Script MT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M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tre Verbs that End in -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resent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ou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n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r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tour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t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nt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mb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rri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"/>
              </a:rPr>
              <a:t>Etre Verbs that End in -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Futura"/>
              </a:rPr>
              <a:t>Present</a:t>
            </a:r>
            <a:r>
              <a:rPr b="0" lang="en-US" sz="4400" spc="-1" strike="noStrike">
                <a:solidFill>
                  <a:srgbClr val="000000"/>
                </a:solidFill>
                <a:latin typeface="Futur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utur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utura"/>
              </a:rPr>
              <a:t>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aî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Descen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Desc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ee"/>
            </a:gs>
            <a:gs pos="100000">
              <a:srgbClr val="ff24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ndwriting - Dakota"/>
              </a:rPr>
              <a:t>Avoir Verb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andwriting - Dakota"/>
              </a:rPr>
              <a:t>Present</a:t>
            </a:r>
            <a:r>
              <a:rPr b="0" lang="en-US" sz="4400" spc="-1" strike="noStrike">
                <a:solidFill>
                  <a:srgbClr val="000000"/>
                </a:solidFill>
                <a:latin typeface="Handwriting - Dakot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andwriting - Dakot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Handwriting - Dakota"/>
              </a:rPr>
              <a:t>Pas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B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Per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Met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Voul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Pou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A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É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Vou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ndwriting - Dak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8:37:51Z</dcterms:created>
  <dc:creator>Scotch Plains BOE</dc:creator>
  <dc:description/>
  <dc:language>en-US</dc:language>
  <cp:lastModifiedBy>Scotch Plains BOE</cp:lastModifiedBy>
  <dcterms:modified xsi:type="dcterms:W3CDTF">2010-01-15T19:18:02Z</dcterms:modified>
  <cp:revision>1</cp:revision>
  <dc:subject/>
  <dc:title>Passé Composé</dc:title>
</cp:coreProperties>
</file>